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wmf" ContentType="image/x-wmf"/>
  <Override PartName="/ppt/media/image16.jpeg" ContentType="image/jpeg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4A6-C161-48D5-8FE9-3A6E20F4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760-E522-47DF-84E2-B59C9BC0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BC9-7062-4170-B6C4-595F9F06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5CF-C86B-4134-937F-B66E18D5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69F-670F-4FBF-B719-57F20339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A22-5A3E-48D2-A576-F6E003D1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5FF-9554-4F5B-808F-4D93AACE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615-8756-4DF3-905C-8E880CAF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298-F48E-4116-AB07-ED164453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317-5DAD-4339-AEEE-3FE36866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656-43C6-4193-B194-B1C98BA8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A37-3778-42C4-9657-0F78402A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8513-3842-4153-B823-67331B227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51080" cy="228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2266920" cy="236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48520" y="4114800"/>
            <a:ext cx="268596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2514600"/>
            <a:ext cx="255276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19948200">
            <a:off x="5867280" y="0"/>
            <a:ext cx="244332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5556240"/>
            <a:ext cx="3124080" cy="130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352680" y="4191120"/>
            <a:ext cx="2743200" cy="243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90920" y="2514600"/>
            <a:ext cx="635796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owerpoint About M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130480"/>
            <a:ext cx="7467840" cy="4727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33520" y="228600"/>
            <a:ext cx="7772400" cy="25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lie's House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0"/>
            <a:ext cx="79246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vorite Spor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76720" y="4572000"/>
            <a:ext cx="225108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5049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2120" y="304920"/>
            <a:ext cx="7696080" cy="22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Favorite Fo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863720" cy="3055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90920" y="2590920"/>
            <a:ext cx="240012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657600" y="4419720"/>
            <a:ext cx="3124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43000" y="304920"/>
            <a:ext cx="70102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rien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11480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429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6:58Z</dcterms:created>
  <dc:creator>CGB</dc:creator>
  <dc:description/>
  <dc:language>en-US</dc:language>
  <cp:lastModifiedBy>CGB</cp:lastModifiedBy>
  <dcterms:modified xsi:type="dcterms:W3CDTF">2008-06-02T14:13:36Z</dcterms:modified>
  <cp:revision>4</cp:revision>
  <dc:subject/>
  <dc:title>Slide 1</dc:title>
</cp:coreProperties>
</file>